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7DFC-DBC1-4336-8041-10FE38ECB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F9E3-84D5-41B6-AE55-C9B953A8D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B272-89F5-4918-8225-A062FDBED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82AD-B40C-4596-B6BA-B629755D2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065B-24D1-473B-A86F-4D5FE9050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EE06-CBCA-44A6-803F-33D77A215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9FA4-45D8-4562-AE2D-361088F4F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CB25-83D3-4AB5-8F5D-EA07A7634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D047-9573-4DD3-9F0B-022A2CE8B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2F25-BBCC-4654-B8B9-9A93E412F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DA96-6F20-458B-ADEE-A968F0B86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1C88-91D3-48A9-999D-633134CEC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D83B-DCDF-4F78-BEEE-4C59407D5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8834-2DCC-4768-8C6B-DFBECFC40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214E-7BB5-4508-B857-B0B71E36B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FD64-A841-4B74-A6DD-AD781843E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9DEC-1574-4808-A54B-191C1A2AF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2D88-92EE-4C88-A370-2053CD514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90EE-AC03-4C8D-B6E4-4EC815BF5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18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ЛОГ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ЕКОВИ ПРОТИВ ВИРУСА И ГЉИ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. др Драган Р. Милован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МФОТЕРИЦИН 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кроциклични лактон (полиен), С12 и ви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дрофилни и хидрофобни део, не ресорбује 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родна супстанца, коју синтетише актиномице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ptomyces nodo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зује се за ергостерол - иреверзибилно оштећење мемб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ирок антимикробни спектар (први избо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ентерални облик са липозомима – направљен да би се смањила токсичност (молекули амфотерицина су затворени у сићушним лоптицама од фосфолипида - липозоми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сока токсич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ицијална фебрилна реа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фротоксичност, мијелотоксич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ФЛУЦИТОЗ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риват флуорираних пипеми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метабол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грађује се у ДНК и инхибира тимидилат-синтет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к избора за хромобластомик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осталих гљивица у комбинацији (амфотериц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патотоксичан и мијелотоксичан (</a:t>
            </a:r>
            <a:r>
              <a:rPr b="0" lang="sr-CS" sz="2400" spc="-1" strike="noStrike">
                <a:solidFill>
                  <a:srgbClr val="2f2b20"/>
                </a:solidFill>
                <a:latin typeface="Arial"/>
              </a:rPr>
              <a:t>посебно код болесника са АИДС-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f2b20"/>
                </a:solidFill>
                <a:latin typeface="Arial"/>
              </a:rPr>
              <a:t>Доза 150-200 мг/кг дневно, подељено у 4 оралне д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Ехиноканди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аспофунгин, микафунгин и анидулафунги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нхибирају синтезу глуканске компоненте ћелијског зида гљиви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аспофунгин се примењује интравенски за лечење резистентних форми системских кандидијаза и  аспергилоз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жељена дејства каспофунгина су: мучнина, повраћање, повишена температура, црвенило лица, анемија и оштећење јет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нидулафунгин и микафунгин имају мање нежељених дејстава од каспофунгина, и ређе ступају у интеракције са другим леков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нидулафунгин се дуже задржава у организму од остала два ехинокандина, и једини се разграђује спонтаном хидролизом у жучним путев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ГРИЗЕОФУЛВ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центрише се у кератиноцити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штећује микротубуле и Р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некад тешка нежељена деј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тра, ЦНС, костна ср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тосензитиван, тератоген (6 месеци), тригоник (алкохол), индуктор енз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ално: опсежне микозе косе и ноктију, коже (1-15 месец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ЕРБИНАФ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риват алилам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ханизам дејства: Инхибира сквален-епоксид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умулација сквалена (токс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икације: Дермато- и онихомикозе (12 недељ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исти се орално или лока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жељена дејства: Добро се подноси, нема интеракције C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ске реакције, централни ефекти, крвне дискра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ЛОКАЛНИ АНТИМИКОТИЦ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золи (већина сувише токсична системск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65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лотримазол, еконазол, кетоконазо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истат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руги (сличне ефикасност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65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олнафтат, нафтифин, циклопироксоламин, ундециленска кисел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65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генцијана, селен-сулфид, јодиди, акрид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мбиновани препара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65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итфилдова маст (кератолитик, антимикоти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761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ензоева и салицилна кисел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ИСТАТ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олован из стрептомицета, поли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ује као амфотерицин Б, не ресорбује 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потреба: површинска кандидиј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кално дејство: локални препарати и табл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актично без нежељених дејст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ЛОКАЛНЕ МИК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рматофите (Trychophyton, Microsporum, Epidermophy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inea corporis, cruris, pedi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um, ungu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итиријазис (tinea) верзиколор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tirosporium orbicul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ритразма (Nocardia s. Actinomyces minutis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укокутана кандидијаза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Candida spp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ЛОКАЛНЕ МИКОЗЕ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ско л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успех локалне тера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ширеност инфекције (милтипли локу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нихоми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е поглавине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ea capit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лни азоли: итраконазол, флуконаз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бинаф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изеофулв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ЕЧЕЊЕ ЛОКАЛНИХ МИК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кални антимикотик, 1-2 пута днев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ронихија и интертриго, 3-4 пута дне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ужина лечења 2-3 или 4-6 неде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жна и подлога: крем и лосио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Гљивице и мик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икробиолог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spcBef>
                <a:spcPts val="550"/>
              </a:spcBef>
              <a:buClr>
                <a:srgbClr val="2da2b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уђи: трихофитон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spcBef>
                <a:spcPts val="550"/>
              </a:spcBef>
              <a:buClr>
                <a:srgbClr val="2da2b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васнице: криптококус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spcBef>
                <a:spcPts val="550"/>
              </a:spcBef>
              <a:buClr>
                <a:srgbClr val="2da2b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иморфне: кандида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линичка слика (микоз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spcBef>
                <a:spcPts val="550"/>
              </a:spcBef>
              <a:buClr>
                <a:srgbClr val="2da2b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локалне (кожа и слузнице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дерматофитије (тинеа), онихомикоз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spcBef>
                <a:spcPts val="550"/>
              </a:spcBef>
              <a:buClr>
                <a:srgbClr val="2da2b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истемске/инвазивне (крв и унутрашњи органи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аспергилоза, хистоплазмоза, кандидемија и д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43080">
              <a:spcBef>
                <a:spcPts val="550"/>
              </a:spcBef>
              <a:buClr>
                <a:srgbClr val="2da2b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икозе поткожног ткив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мицетоми (Мадура стопало), зигомикозе и д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ФЕБРИЛНА НЕУТРОПЕН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ће последица имуносупресивне тера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ебрилнос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38ºC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неутропенија &lt; 2.0x10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успех 5-дневне терапије антибиотицима широког спек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рентерална примена антимико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мфотерицин, Каспофунгин, Флуконазол, Вориконаз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ЛЕКОВИ ПРОТИВ ВИР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тогени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РНК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 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арена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проузроковачи менингитиса и Ласа грознице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хепацивирус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хепатитис Ц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ортомиксо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рип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парамиксо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у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шк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мале богиње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пикорна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респираторне инфекције, менингитис, полиомијелитис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рабдо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беснило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вирус рубел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ретро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проузроковач СИДА-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тогени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ДНК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 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адено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проузроковачи упале вежњаче и респираторних инфекција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хепадна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хепатитис Б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херпес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херпес усана и гениталних органа, херпе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остер, овчи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боги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цитомегаловирус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е),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папилома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кондиломи) и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поксвирус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боги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75e47"/>
                </a:solidFill>
                <a:latin typeface="Arial"/>
              </a:rPr>
              <a:t>ЛЕКОВИ ЗА ИНФЕКЦИЈЕ ХЕРПЕС ВИРУСИМА</a:t>
            </a:r>
            <a:br>
              <a:rPr sz="3200"/>
            </a:br>
            <a:r>
              <a:rPr b="0" i="1" lang="sr-RS" sz="3200" spc="-1" strike="noStrike">
                <a:solidFill>
                  <a:srgbClr val="000000"/>
                </a:solidFill>
                <a:latin typeface="Arial"/>
              </a:rPr>
              <a:t>Ациклов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о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уринских нуклеозида гуанозина, који се у ћелији домаћина фосфорилиш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до трифосфата, а затим инхибирају вирусну ДНК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имер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дикације: генерализоване инфекције херпес вирусом, рецидивантне инфекције гениталним херпесом, инфекције вирусом херпес зостер (само код тешких случајева овчијих богиња или херпес зосте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омплетно се ресорбује у ГИТ-у, добро продире у сва ткива и телесне течности, плаценту и мле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лучује се преко бубрега (гломеруларном филтрацијом и тубуларном секрецијом), већим делом неизмењ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жељена дејства: главобоља, мучнина и пролив, ређе осећај умора, пораст температуре, депресију, конфузију, конвулзије и алопецију; нефротоксичан код и.в.прим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за је 200-800мг/5 часова орално, или 15 мг/кг/ дан и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000000"/>
                </a:solidFill>
                <a:latin typeface="Arial"/>
              </a:rPr>
              <a:t>Валациклов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о-лек, одлично се апсорбује, а затим у јетри и цревном зиду претвара у ацикловир и тако постиже серумске концентрације ацикловира 3 до 5 пута више од оних након примене самог ациклови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мењује се 500 мг на 12 часова, оралн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ндикације: рецидивантни генитални херпес и умерено тешки облик херпес зостер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4000" spc="-1" strike="noStrike">
                <a:solidFill>
                  <a:srgbClr val="000000"/>
                </a:solidFill>
                <a:latin typeface="Arial"/>
              </a:rPr>
              <a:t>Идоксиуридин и трифлурид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Arial"/>
              </a:rPr>
              <a:t>Идоксиуридин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хибира ДНК полимера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римењује се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локално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у терапији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фекција ока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изазваних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херпес симплексом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(токсичан при системској примен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Трифлуриди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луорирани пиримидински нуклеозид, који после фосфорилације инхибира претварање деокси-уридин монофосфата у деокситимидин монофосфат, а затим конкурише са деокситимидин трифосфатом за уградњу у ДНК вируса и ћелије домаћ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сти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с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локално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за лечењ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ератокоњунктивитис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азваног херпес вирусима тип 1 и 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а лека после дуже употребе могу изазвати замућење рожњач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600" spc="-1" strike="noStrike">
                <a:solidFill>
                  <a:srgbClr val="000000"/>
                </a:solidFill>
                <a:latin typeface="Arial"/>
              </a:rPr>
              <a:t>Пенцикловир и фамциклов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Пенцикловир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ациклични аналог гуанозина, који делује истим механизмом као ацикловир на синтезу ДНК херпес виру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исти се само локално за лечење херпеса на усн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Фамцикловир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про лек (диацетил естар пенцикловира), који се после апсорпције претвара у јетри у пенциклови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(Б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77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зује за протеине плазме (20%) и добро продире у сва ткива. Елиминише се преко бубрега, као неизмењен лек, гломеруларном филтрацијом и тубуларном секрециј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мцикловир доводи до бржег престанка бола код херпес зостера него ацикловир (доза фамцикловира: 500мг / 8 часова, оралн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азива конфузију, халуцинације, а ретко супресију костне сржи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крштена резистенц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важи за ацикловир, валацикловир и фамцикловир (нема је нема са фоскарнетом и цидофовир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600" spc="-1" strike="noStrike">
                <a:solidFill>
                  <a:srgbClr val="000000"/>
                </a:solidFill>
                <a:latin typeface="Arial"/>
              </a:rPr>
              <a:t>Цидофови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Цидофовир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ациклични аналог цитозина, инхибира активност вирусне ДНК полимер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або се апсорбује, примењује се интравенс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лучује се неизмењен у урину (Т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2.5 сата), али се знатно дуже задржава унутар ћелија, везан за фосфохо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 лечење херпес симплекс инфекција које су резистентне на ацикловир, за превенцију и лечење цитомегаловирусног рети-нитиса код особа са СИДА-ом (5мг/кг интравенски, једном не-дељно), за лечење кондилома (Condylomata accuminat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идофовир је нефротоксичан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лативно често изазива предњи увеитис и неутропенију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анконијев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000000"/>
                </a:solidFill>
                <a:latin typeface="Arial"/>
              </a:rPr>
              <a:t>Фоскарн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органско једињење, аналог пирофосфата, који некомпетитивно инхибира вирусну ДНК полимер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њује се само интравенски; у малом проценту се везује за протеине плазме, и одлично продире у многа ткива и телесне течности (нпр. у стакласто тело ока). Накупља у костима, услед чега се из организма споро елиминиш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 лечење цитомегаловирусног ретинитиса код пацијената са СИДА-ом, и за лечење инфекција херпес вирусом или варичела-зостер вирусом резистентним на ациклов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Д: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фротоксич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ост (превенција је добра хидрираност болеаника)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окалцемиј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хипокалемиј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хипомагнезијемиј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хипофосфатемиј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4400" spc="-1" strike="noStrike">
                <a:solidFill>
                  <a:srgbClr val="000000"/>
                </a:solidFill>
                <a:latin typeface="Arial"/>
              </a:rPr>
              <a:t>Докосан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голанчани, засићени алкохол, који спречава улазак вируса у ћелије тако што инхибира фузију омотача вируса са мембраном ћелије домаћ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кључиво локално у третману инфекције херпес симплекс вирусом (за херпес усан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вид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10%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епарата за локалну примену еф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сан је ако се примени у продромалној фази- унутар 12 сати од првих симптома и наредних 5 д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поређењу са плацебом време зацељивања лезија рекурентног лабијалног херпеса се скраћује за 18 с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ма нежељених дејстава, па се издаје без рецеп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Лекови против вируса гри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руси инфлуенце типа  А и Б изазивају значајно обољење код љу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Амантадин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 синтетски трициклични амин, а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римантади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његов алфа-метил дерив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хибирају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онски канал у мембрани вируса инфлуенце тип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док на тип Б слабо делу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о се ови лекови примене у року од 48 часова од почетка симптома, трајање повишене температуре и тегоба се скраћује за 1-2 дана, али нема доказа да ови лекови спречавају настанак комплик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мантадин и римантадин могу и да спрече настанак инфекције инфлуенцом А код 70 – 90% пације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мантадин је токсичнији лек од римантадина - изазива депресију, конфузију, анксиозност и психомоторну инкоординацију, кардиоваскуларну токсичност и антимускаринска деј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НТИМИКОТИЦ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нородна фармаколошка г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ијска 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ме увођења у клиничку прак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ханизам деј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гљивични спек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чин примене (фармацеутски обл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жељена деј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Лекови против вируса гри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900" spc="-1" strike="noStrike">
                <a:solidFill>
                  <a:srgbClr val="2f2b20"/>
                </a:solidFill>
                <a:latin typeface="Arial"/>
              </a:rPr>
              <a:t>Занамивир и оселтамивир - </a:t>
            </a:r>
            <a:r>
              <a:rPr b="0" lang="sr-CS" sz="1900" spc="-1" strike="noStrike">
                <a:solidFill>
                  <a:srgbClr val="2f2b20"/>
                </a:solidFill>
                <a:latin typeface="Arial"/>
              </a:rPr>
              <a:t> инхибитори вирусне неураминидаз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900" spc="-1" strike="noStrike">
                <a:solidFill>
                  <a:srgbClr val="2f2b20"/>
                </a:solidFill>
                <a:latin typeface="Arial"/>
              </a:rPr>
              <a:t>Занамивир</a:t>
            </a:r>
            <a:r>
              <a:rPr b="0" lang="sr-CS" sz="1900" spc="-1" strike="noStrike">
                <a:solidFill>
                  <a:srgbClr val="2f2b20"/>
                </a:solidFill>
                <a:latin typeface="Arial"/>
              </a:rPr>
              <a:t> примењује се путем инхалације и око 15% се апсорбује у крв и излучује неизмењено преко бубрег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2f2b20"/>
                </a:solidFill>
                <a:latin typeface="Arial"/>
              </a:rPr>
              <a:t>Занамивир се користи за лечење (скраћује трајање болести за 1 дан) и профилаксу инфекције инфлуенцом А и Б, али само код пацијената старијих од 7 годин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2f2b20"/>
                </a:solidFill>
                <a:latin typeface="Arial"/>
              </a:rPr>
              <a:t>Оселтамивир</a:t>
            </a:r>
            <a:r>
              <a:rPr b="0" lang="sr-CS" sz="1900" spc="-1" strike="noStrike">
                <a:solidFill>
                  <a:srgbClr val="2f2b20"/>
                </a:solidFill>
                <a:latin typeface="Arial"/>
              </a:rPr>
              <a:t> - Примењује се орално, добро се апсорбује, па се по-том у јетри претвара у активан облик оселтамивир карбоксила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2f2b20"/>
                </a:solidFill>
                <a:latin typeface="Arial"/>
              </a:rPr>
              <a:t>Делује добро на инфлуенцу А и Б; у лечењу се користи код деце старије од годину дана и одраслих, а у превенцији се користи само код особа старијих од 13 годин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2f2b20"/>
                </a:solidFill>
                <a:latin typeface="Arial"/>
              </a:rPr>
              <a:t>Смањује трајање симптома за пола дана и смањује учесталост компликациј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2f2b20"/>
                </a:solidFill>
                <a:latin typeface="Arial"/>
              </a:rPr>
              <a:t>Може да спречи настанак инфекције вирусом инфлуенце код 90% изложених особ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Терапиј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индрома стечене имунодефицијенције (СИДА, АИДС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 терапије је смањење броја вируса у организму пре него што настане неповратно оштећење имунолошког сист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мена лекова се започиње када је број ЦД4 лимфоцита мањи од 350/</a:t>
            </a:r>
            <a:r>
              <a:rPr b="0" lang="sr-CS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, а број вирусних честица већи од 50.000/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век се примењује комбинација лекова који делују на различите начине на ХИВ виру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а сада постоји 6 група анти-ХИВ леков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75e47"/>
                </a:solidFill>
                <a:latin typeface="Arial"/>
              </a:rPr>
              <a:t>Терапија </a:t>
            </a:r>
            <a:r>
              <a:rPr b="0" lang="en-US" sz="3600" spc="-1" strike="noStrike">
                <a:solidFill>
                  <a:srgbClr val="675e47"/>
                </a:solidFill>
                <a:latin typeface="Arial"/>
              </a:rPr>
              <a:t>синдрома стечене имунодефицијенције (СИДА, АИДС</a:t>
            </a:r>
            <a:r>
              <a:rPr b="0" lang="sr-RS" sz="3600" spc="-1" strike="noStrike">
                <a:solidFill>
                  <a:srgbClr val="675e47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уклеозидни инхибитори реверзне транскрип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уклеотидни инхибитори реверзне транскрип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-нуклеозидни инхибитори реверзне транскрип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хибитори проте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хибитори уласка вируса у лимфоци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хибитори вирусне интегр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 се користи комбинација 2 нуклеозидна инхи-битора са једним не-нуклеозидним инхибитором или једним инхибитором протеазе - таква комбинација се назива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високо-активна антиретровирусна терапија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уклеозидни инхибитори реверзне транскриптаз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9807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ћелијама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сфорилишу до трифосфатне форме, а онда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 дејством реверзне транскриптазе уграђ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у ДНК вирус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; 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де до прекида раста ланца вирусне ДНК, спречавајући даље размножавање вир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идовудин, ставудин, диданозин (у профилакси), ламивудин, 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трицитабин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луоро дериват ламивудин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, абакавир, 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алцитаби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што инхибирају и ДНК полимеразу у митохондријама, могу изазвати лактат ацидозу, стеатозу јетре и њено увећ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ериферна неуропатија, панкреатитис, мијелотоксичност, хиперпигментација дланова и таб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Нуклеотидни инхибитори реверзне транскриптаз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нофовир дизопроксил фума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лек, који се у организму претвара у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нофовир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нуклеозидни аналог аденоз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фикасан у терапији СИДА-е и када се развије резистенција на нуклеозидне инхибиторе реверзне транскрип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а малу биоискористљивост после оралне примене (25%), не метаболише се, и неизмењен се излучује преко бубр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длично се подноси, не делује токсично на митохондрије као нуклеозидни инхибито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Не-нуклеозидни инхибитори реверзне транскриптаз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ректно инхибирају активност вирусне реверзне транскриптазе, делујући адитивно са нуклеозидним инхибитор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када се не користе сами (због брзог развоја резистенције) већ само заједно са нуклеозидним инхибитори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фавиренц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- за терапију СИДА-е и за профилаксу инфекци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азива оспу и пораст ензима јетре и холестерола у серуму. Централни ефекти: несаница, еуфорија, агитација, поремећај мишљења, ноћне море и халуцин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дукује ЦИП3А4, а инхибира ЦИП2Ц9 и ЦИП2Ц19 - бројне интеракци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вирап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 за лечење СИДА-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жак хепатитис и/или Стивен-Џонсонов синдром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лавирд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 за терапију СИДА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травирин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 и Рилпивирин -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виј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е-нуклеозидне инхибитор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еверзне транскриптаз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нхибитори вирусне протеаз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терапији СИДА-е, увек у комбинацији са осталим леко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азивају ГИТ тегобе и парестезије, доводе до хипергликемије и инсулинске резистенције, и изазивају хиперлипидемиј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аболизам у јетри под дејством ЦИП3А4 – бројне интеракци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Ритонави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је најтоксичнији, и има највише интеракција (инхибира ЦИП3А4 и ЦИП2Д6 и индукује ЦИП1А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Индинави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- изазива нефролитијазу, посебно код дец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Нелфинави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је најмање токсичан од свих инхибитора протеазе, али може изазвати дијаре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Ампренави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- у виду раствора за оралну примену, који садржи много </a:t>
            </a:r>
            <a:r>
              <a:rPr b="0" i="1" lang="sr-CS" sz="1800" spc="-1" strike="noStrike">
                <a:solidFill>
                  <a:srgbClr val="000000"/>
                </a:solidFill>
                <a:latin typeface="Arial"/>
              </a:rPr>
              <a:t>пропилен гликол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 не сме давати деци млађој од 4 год.) 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Фосампренави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је про-лек, који се претвара у ампренав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Саквинавир, лопинавир, дарунавир и атазанави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Типранави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је новији инхибитор протеазе који се даје код резистенције на друге лекове из ове гр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нхибитори уласка вируса у лимфоцит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Енфувиртид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речава улазак ХИВ вируса у лимфоците блокадом вирусног трансмембранског протеин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гп41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оји омогућава фузију мембране вируса са мембраном лимфоц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њује се паренетерал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Маравиро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блокира хемокинске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ЦЦР5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рецептора на лимфоцитима за гликопроте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њује се орал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Оба лека примењују се само као додатна терапија уз инхибиторе реверзне транскриптазе, код пацијената који нису добро реаговали на примарну терап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Инхибитори вирусне интегра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200" spc="-1" strike="noStrike">
                <a:solidFill>
                  <a:srgbClr val="000000"/>
                </a:solidFill>
                <a:latin typeface="Arial"/>
              </a:rPr>
              <a:t>Ралтеграви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sr-CS" sz="2200" spc="-1" strike="noStrike">
                <a:solidFill>
                  <a:srgbClr val="000000"/>
                </a:solidFill>
                <a:latin typeface="Arial"/>
              </a:rPr>
              <a:t>елвитегравир и долутеграви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су инхибитори вирусне интегразе, ензима који уграђује вирусну ДНК у хромозоме домаћина, и тиме омогућава репликацију виру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имењују се орално,  у комбинацији са другим антиретровирусним лековима, за лечење болесника у свим стадијумима боле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што се метаболишу на цитохромима, елвитегравир и долутегравир ступају и интеракције са другим лековима, док то није случај са ралтегравиром, који се у јетри само коњугу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алтегравир може изазвати миопатију и рабдомиолиз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лутегравир делује на неке сојеве вируса који су резистентни на ралтегравир и елвитеграви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Терапија Хепатитиса 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епатитис Б  - ДНК вирус који се размножава у хепатоцити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ва терапијска линија - пегиловани интерферон алфа, ентекавир и тенофовир дизопроксил фума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"пегилирани" интерферон </a:t>
            </a:r>
            <a:r>
              <a:rPr b="1" lang="sr-C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коњугат интерферона </a:t>
            </a:r>
            <a:r>
              <a:rPr b="0" lang="sr-C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монометокси полиетилен гликола је депо-препарат, који се може примењивати једном недељно, потк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нтекавир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аналог гуанозина који омета функционисање вирусне ДНК полимер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енофовир дизопроксил фумара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нуклеотидни аналог аденозин монофосфата који инхибира реверзну транскриптазу и ДНК полимеразу вируса хепатитиса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Телбивуди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аналог тимидина, који се после фосфорилације уграђује у ДНК вируса хепатитиса 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амивудин и адефовир</a:t>
            </a:r>
            <a:r>
              <a:rPr b="1" i="1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– у другој терапијској лин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е хроничне форме хепатитиса Б траје најмање годину д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НТИМИКОТИЦИ ЗА СИСТЕМСКУ ПРИМЕ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золи: имидазоли и триазоли (кетоконазол, итраконазол, флуконазол, миконазол, вориконазол, посиконазо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иени: амфотерици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луцитоз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хиноканди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(каспофунгин, микафунг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АЗО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идаз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етоконазол, миконазол, клотримаз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иаз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траконазол, флуконазол, вориконаз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фикаснији, слабија резист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ља фармакокинетика и подношљи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АЗО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хибирају цитохром Р450 (деметилаза) и синтезу ерго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штећују мембрану гљив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хибиција АТР-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теракције ле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ирок спектар антигљивичног деј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фикасни у локалној и системској при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ЗОЛИ -фармакокине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ожена фармакокинетика, специфична за л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иселост, храна и лекови утичу на аспорп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ирока дистрибуција, ограничен продор у ЦНС (флуконазо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лиминација преко јетре или бубрез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окални и/или системски препар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ЗОЛИ –нежељена деј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бро се подносе, релативно безбед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епатотоксичност (ретко али опас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хибиција синтезе андрогена и кортизола (више доз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ритмије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Tc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срчана инсуфицијенција (итраконаз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кције локалне подношљ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руга дејства (специфично за ле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ОПРЕЗ КОД АЗ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редности јетрeних ензима (АЛТ, АС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 почетка, после 14 дана а потом месе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начајне вредности изнад 3 пута од горњег лимита реф.вре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д терапије азолима објаснити пацијенту да се хитно јави лекару на појав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уке, гађења, повраћања, малаксалости, бола у трбуху, тамног у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8-09-09T19:42:58Z</dcterms:modified>
  <cp:revision>20</cp:revision>
  <dc:subject/>
  <dc:title>Slide 1</dc:title>
</cp:coreProperties>
</file>